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3A1-4423-440D-AC20-A754AD7A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981-369D-4FBF-8986-2A4AF96A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306-8EDB-4D70-96C0-F52DB7FE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D30-41A7-4A6C-83B8-502A607C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192-7629-41E2-A620-D1D8E612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0FC-DF4B-40CC-9A40-96CE97ED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9B3-21AC-4718-BD65-5067372E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22A-D67F-41A2-9FC4-E7DFC624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FD5-94F2-415F-BDE4-A318AF31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759-3CB2-4813-93E3-A6ACCDBB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B1A-37D3-4AFA-AD9D-E7D67956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292-BB33-49E2-B181-E749F455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66FD-9C10-4D22-9637-E5099CEFE2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4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6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880" y="1752480"/>
            <a:ext cx="615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Quantitatively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ssessing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the Risk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3809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315200" cy="631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19520" y="4800600"/>
            <a:ext cx="3045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315200" cy="63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315200" cy="3504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90720" y="4648320"/>
            <a:ext cx="7315200" cy="1447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95480" y="38862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4800600"/>
            <a:ext cx="7315200" cy="65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7315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7315200" cy="65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73152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620120" cy="4648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5562720"/>
            <a:ext cx="2133720" cy="761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248520" y="5562720"/>
            <a:ext cx="2286000" cy="76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5638680"/>
            <a:ext cx="327672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respond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5410080"/>
            <a:ext cx="3505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6172200"/>
            <a:ext cx="32767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7696080" cy="2705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69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62012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7620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3657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38080" y="4800600"/>
            <a:ext cx="7620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327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7620120" cy="761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38080" y="4724280"/>
            <a:ext cx="76201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6629400" cy="1218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43000" y="1447920"/>
            <a:ext cx="6629400" cy="163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b017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Selection bias in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Risk Ratio (RR)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38480" y="4267080"/>
            <a:ext cx="37339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2895480" cy="1219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4495680"/>
            <a:ext cx="228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619760" cy="3809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90720" y="4952880"/>
            <a:ext cx="76197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61976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7619760" cy="838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76197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7619760" cy="1057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620120" cy="1057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620120" cy="2438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8580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620120" cy="2720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620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3254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761976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62120" y="4495680"/>
            <a:ext cx="7619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20120" cy="3809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4952880"/>
            <a:ext cx="76201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3025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7620120" cy="635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620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71600" y="533520"/>
            <a:ext cx="6629400" cy="163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b017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Selection bias in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Risk Ratio (RR)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662940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895480" y="2130480"/>
            <a:ext cx="350532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371600" y="213372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24480" y="2057400"/>
            <a:ext cx="1676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457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62120" y="5257800"/>
            <a:ext cx="76197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3406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762012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620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5181480"/>
            <a:ext cx="7620120" cy="949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7620120" cy="949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620120" cy="3406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7620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5029200"/>
            <a:ext cx="7620120" cy="838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7620120" cy="838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620120" cy="3406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7620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7315200" cy="2667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3152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2590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7315200" cy="549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2895480"/>
            <a:ext cx="228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276720" y="2971080"/>
            <a:ext cx="3045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28840" y="29718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315200" cy="185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2514240" y="32767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276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3276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315200" cy="3353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7315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152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7315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15200" cy="3505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66680" y="4419720"/>
            <a:ext cx="73152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2210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7315200" cy="838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7315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0:15Z</dcterms:modified>
  <cp:revision>214</cp:revision>
  <dc:subject/>
  <dc:title>Slide 1</dc:title>
</cp:coreProperties>
</file>